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DB6-7299-48D9-9A99-DA394DBA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D76-7E0A-4364-8414-5613918A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1A7-297E-44DE-809D-2B034C30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77E-6EED-46F8-84B6-DC77FB82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0D0-13D8-467F-B3DF-D60D7990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9E5-F1CF-4023-BF68-C90574B3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7BD-91CA-4016-8E36-2E4757F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EA8-7463-4D14-9ED3-362D70F3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B46-F362-448C-87F1-6E4854E0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7B3-9C11-4721-BED1-C1DE33C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63E-F3D1-4C26-9314-DBD082C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8E8-E2F3-4DC0-BD20-F07F2F3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1E6-D5A8-43D5-94F1-F1D75510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D60-AAFA-4DB9-BF9C-0120221F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1" descr=""/>
          <p:cNvPicPr/>
          <p:nvPr/>
        </p:nvPicPr>
        <p:blipFill>
          <a:blip r:embed="rId1"/>
          <a:srcRect l="-7546" t="-91" r="-1937" b="-1703"/>
          <a:stretch/>
        </p:blipFill>
        <p:spPr>
          <a:xfrm>
            <a:off x="-228600" y="0"/>
            <a:ext cx="9991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CBC-302B-4D43-A0B7-039C6619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ject 2" descr=""/>
          <p:cNvPicPr/>
          <p:nvPr/>
        </p:nvPicPr>
        <p:blipFill>
          <a:blip r:embed="rId1"/>
          <a:srcRect l="-824" t="-1159" r="0" b="-489"/>
          <a:stretch/>
        </p:blipFill>
        <p:spPr>
          <a:xfrm>
            <a:off x="0" y="0"/>
            <a:ext cx="90964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E44-4B58-433D-9C97-56593A01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Energy Sources for Cont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Energy for contraction comes from molecul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is in limited supply and so must often be re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reatine phosph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stores excess energy releas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ochondria, is present to regenerate ATP from ADP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Whenever the supply of ATP is sufficient, creat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kinase promotes the synthesis of creatine phosph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As ATP decomposes, the energy from creatine phosphate can b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red to ADP molecules, converting them back to A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83B-CC7B-4D87-9988-CA801094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 Role of Myosin and Act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Energy Sources fo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The early phase of cellular respiration yields f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, so muscle has a high requirement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, which enables the complete break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glucose in the mitochond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red blood cells carries oxyge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he pigment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my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ores oxygen in muscle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8D8-DCC9-4F01-ABAD-E058CC5B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al Muscle Con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.    Role of Myosin and Act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us for Cont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   Energy Sources for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Supply and Cellular Respi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When a muscle loses its ability to contract during strenu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, it is referred to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tig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Muscle fatigue usually arises from the accumulation of lactic a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. A lowered pH as a result of accumulated lactic a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 the muscle from contrac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A muscle cramp occurs due to a lack of ATP required to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ium ions back to the sarcoplasmic reticulum so muscle fibers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24:38Z</dcterms:created>
  <dc:creator>ITR </dc:creator>
  <dc:description/>
  <dc:language>en-US</dc:language>
  <cp:lastModifiedBy>gibsonbrownr</cp:lastModifiedBy>
  <dcterms:modified xsi:type="dcterms:W3CDTF">2012-01-03T01:01:06Z</dcterms:modified>
  <cp:revision>128</cp:revision>
  <dc:subject/>
  <dc:title>PowerPoint Presentation</dc:title>
</cp:coreProperties>
</file>